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592C-4D41-4E4A-B5F2-672490C2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9D5D-D570-4C14-828D-7B4D07BA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117D-D86F-4B6C-9736-34C0A08C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789F-CB42-4228-8EA5-1B312ADD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BC70-A420-47AC-8AD0-6A16CF15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0214-0D07-4D49-9C9A-76E1E3F0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C2F4-6AF3-45B0-8149-CBA9EFD8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8D82-9375-4DB1-B762-EA76FE9A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910D-EF3F-45B9-8CFD-835115D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8D8-5743-4008-8398-0DB02817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6B39-D2A2-47B2-BACA-BF3153D9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00FE-BCB5-4242-BE18-096FD58A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1EF2-583F-42AE-86BD-5EE8309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BA4-D9A1-4940-9294-955547D6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5368-53E7-4BDE-842E-7EAEFE16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7F71-C968-4E56-866F-8EE910DA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9118-55E3-4CDF-9B79-023764A0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9439-D8EC-43E2-89AA-6F198FB8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3776-44E9-4F2E-8DBB-2C528C5F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6D76-964B-4079-9201-2D85CFBA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9FB6-CF72-4D0C-BDC2-B75FD7BA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3410-FA06-4377-A469-5B49606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BA1E-7038-43A0-8C04-C13EA64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F10E-B993-416B-9137-A99DCB3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299F-5EB7-4956-98F1-33BCB3F1689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7EE-A648-47BC-9057-546D0212265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0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26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Сред бурите на тоз живо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Спасите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вета виреят грях, похот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Спасите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 чуден Спас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сички тъй нуж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, свят Изкуп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45760"/>
            <a:ext cx="1008216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Приятели на врагов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оз свят лесно стават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ятел за вси веков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а признава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 верен Прия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сички тъй нуж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и вечен Прия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01480"/>
            <a:ext cx="957744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С грях, скръб и светска тегота душата се бор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сам Исус на Голго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нея се мол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лостив Съчувствит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одатай тъй нуж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 тоз Изкуп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96560"/>
            <a:ext cx="9577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След всички бури и смърт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нас да повик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Той и тази тъмно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ръща в почивк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мъртта Избавит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цял свят тъй нуж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божествен Спас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за мен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37:52Z</dcterms:modified>
  <cp:revision>140</cp:revision>
  <dc:subject/>
  <dc:title>Slide 1</dc:title>
</cp:coreProperties>
</file>